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E894-5DB0-4505-8844-92B2626E3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279E-D244-41CC-9530-FDDA8862D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FCBC-AB30-4F30-9A1D-A89DD2062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E05A-0BA9-4683-8A8E-142DEB845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12A1-A74B-4FA9-8E28-623CC6F2E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DB3E-C0E7-412E-9B6C-EB09708B8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F80B-F6F0-4BE7-89AF-893AF0A59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82A2-4C5E-421D-9EE3-29F9C708C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9205-64DA-4BA6-99D1-95B84D430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9E9B-606B-4B67-90A3-0020EB5BC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16CB-0F46-4F04-8614-A0A331D7D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2FA7-57D4-4BB8-85AC-311AA21FD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EAC4-57D2-4CDF-A0DB-C35D101F36C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stituent număr diapozitiv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E623-6482-4F0A-B5A9-F796F28B912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16200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3200" spc="-1" strike="noStrike">
                <a:solidFill>
                  <a:srgbClr val="0c2e86"/>
                </a:solidFill>
                <a:latin typeface="Verdana"/>
              </a:rPr>
              <a:t>TERMENI UTILIZA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85760" y="982800"/>
            <a:ext cx="8661240" cy="515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WIKI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363600">
              <a:spcBef>
                <a:spcPts val="1250"/>
              </a:spcBef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este un instrument opţional pentru prezentarea portofoliilor  şi pentru practicile didactice suplimentare;este un tip de website care permite vizitatorilor să adauge, să şteargă , să editeze  şi să modifice în alt mod un conţinut informaţional disponibil; Instrucţiunile de creare a unui instrument wiki se găsesc la pag. B27 sau tutorial pe wiki grupe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363600">
              <a:spcBef>
                <a:spcPts val="1250"/>
              </a:spcBef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reprezintă site-uri web de colaborare care pot fi setate pentru a fi editate de oricine sau doar de anumiţi utilizatori;autorul unui wiki poate fi notificat cu privire la toate modificările şi poate urmări şi monitoriza dezvoltarea conţinutului site-ulu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363600"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ffffff"/>
                </a:solidFill>
                <a:uFillTx/>
                <a:latin typeface="Verdana"/>
              </a:rPr>
              <a:t>http://dotsub.com/view/77366331-a04d-48f0-8cab-cb5e278c4033</a:t>
            </a:r>
            <a:r>
              <a:rPr b="0" lang="ro-RO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363600"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A187-4046-4128-868B-141291D4771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55520" y="885960"/>
            <a:ext cx="8988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1080" indent="-63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B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“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n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weblog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(prescurtat </a:t>
            </a:r>
            <a:r>
              <a:rPr b="1" lang="ro-RO" sz="1800" spc="-1" strike="noStrike">
                <a:solidFill>
                  <a:srgbClr val="0c2e86"/>
                </a:solidFill>
                <a:latin typeface="Verdana"/>
              </a:rPr>
              <a:t>blog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) este o publicaţie web ce conţine articole periodice, ce au de obicei caracter personal - asemenea unui </a:t>
            </a:r>
            <a:r>
              <a:rPr b="1" i="1" lang="ro-RO" sz="1800" spc="-1" strike="noStrike">
                <a:solidFill>
                  <a:srgbClr val="0c2e86"/>
                </a:solidFill>
                <a:latin typeface="Verdana"/>
              </a:rPr>
              <a:t>jurnal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, fiind afişate în ordine cronologică invers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copul blogurilor variază foarte mult, de la jurnale personale la arme ale campaniilor politice, ale programelor media sau ale diferitelor companii. De asemenea, ele variază şi în funcţie de autor - de la unul singur la o comunitate întreag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Multe webloguri permit vizitatorilor să lase comentarii publice, care pot crea o comunitate de cititori centrată în jurul blogului; altele nu sunt interactive (sunt private).”(http://ro.wikipedia.org/wiki/Weblog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0c2e8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811080" indent="-6350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http://www.youtube.com/watch?v=NN2I1pWXjXI</a:t>
            </a:r>
            <a:br>
              <a:rPr sz="1800"/>
            </a:b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0" y="16200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3200" spc="-1" strike="noStrike">
                <a:solidFill>
                  <a:srgbClr val="0c2e86"/>
                </a:solidFill>
                <a:latin typeface="Verdana"/>
              </a:rPr>
              <a:t>TERMENI UTILIZA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ubstituent număr diapozitiv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0E16-6FEA-4B92-A621-147F02D344B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363600" y="446040"/>
            <a:ext cx="65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Text Box 3" descr=""/>
          <p:cNvPicPr/>
          <p:nvPr/>
        </p:nvPicPr>
        <p:blipFill>
          <a:blip r:embed="rId1"/>
          <a:stretch/>
        </p:blipFill>
        <p:spPr>
          <a:xfrm>
            <a:off x="201600" y="365040"/>
            <a:ext cx="8618400" cy="1506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290520" y="2244600"/>
            <a:ext cx="7792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TUTORIAL =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rodusul în care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rumu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utilizatorului este controlat pentru formarea unor deprinderi după o strategie stabilită de proiectantul produsulu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Text Box 5" descr=""/>
          <p:cNvPicPr/>
          <p:nvPr/>
        </p:nvPicPr>
        <p:blipFill>
          <a:blip r:embed="rId2"/>
          <a:stretch/>
        </p:blipFill>
        <p:spPr>
          <a:xfrm>
            <a:off x="237960" y="3713040"/>
            <a:ext cx="84981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ubstituent număr diapozitiv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971D-6307-447E-A308-4D8D2A9171F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60280" y="176040"/>
            <a:ext cx="852012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VANTAJELE INTEGRĂRII ÎN PROIECT</a:t>
            </a: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gregarea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con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ţinutului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-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&gt;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capacitatea de a integra mai multe fragmente de conţinut într-o interfaţ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Moduri de vizualizare personaliz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Conţinut personaliz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Facilităţi de colabor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Localizarea resursel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Independenţa de platform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17480">
              <a:spcBef>
                <a:spcPts val="125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Dezvoltare modular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36680" y="4405320"/>
            <a:ext cx="8323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Observaţie</a:t>
            </a:r>
            <a:r>
              <a:rPr b="1" i="1" lang="en-US" sz="20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i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Wiki, blog.. pot deveni portofolii digitale sau spaţii de lucru în grup, permiţând păstrarea legăturii şi după terminarea cursulu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3" descr=""/>
          <p:cNvPicPr/>
          <p:nvPr/>
        </p:nvPicPr>
        <p:blipFill>
          <a:blip r:embed="rId1"/>
          <a:stretch/>
        </p:blipFill>
        <p:spPr>
          <a:xfrm>
            <a:off x="255600" y="171360"/>
            <a:ext cx="8443800" cy="99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O descriere a Web 2.0 s-ar putea face prin urmatoarele caracteristici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clude o paleta foarte larga de aplicatii si servicii care folosesc Web-ul ca platforma unitara si organizata de comunicar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ste construit pe baza unei arhitecturi care încurajeaza participarea activa a utilizatorilo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rmite interactiunea facila între utilizatorii care au aceleasi interes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loseste puterea comunitatilor de internauti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dica o schimbare de paradigma în ceea ce priveste Web-u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6A88-3A75-46B9-9FB0-4229F6133DB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65040" y="291600"/>
            <a:ext cx="8237520" cy="545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ofera utilizatorilor posibilitatea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a produce continut, de a-l partaja cu altii, deci o mai puternica interactivitat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 experienta mult mai apropiata de aplicatiile desktop, cu interfete grafice intuitive, placute, programabile si, mai ales, transparent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aciliteaza accesul public la baze de date, prin API-uri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re abilitatea de a conecta între ele diverse aplicatii sau servici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a socializa informatia - un concept despre aplicatii si oameni; aparitia instrumentelor colaborative de genul wiki-urilor, a platformelor de socializare ca MySpace, Hi5, LinkedIn sau Second Life, a blogurilor, a structurilor de comunicare de date si documente, a colectiilor de bookmarkuri ( ca del.icio.us sau digg ), de clipuri video ( YouTube ) sau de imagini ( flickr ) etc.;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sterea uzabilitatii - îmbunatatirea experientei utilizatorilor;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mocratizarea continutului si distributia acestuia (continut creat de utilizator si distribuit lib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0AAE-3D59-4DE6-95DE-34754D3F26A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ARDELEAN NORIN</cp:lastModifiedBy>
  <cp:lastPrinted>2006-11-14T00:45:04Z</cp:lastPrinted>
  <dcterms:modified xsi:type="dcterms:W3CDTF">2011-03-18T03:48:50Z</dcterms:modified>
  <cp:revision>232</cp:revision>
  <dc:subject/>
  <dc:title>Presentation Title Goes Here</dc:title>
</cp:coreProperties>
</file>